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81F8-A7B5-43CB-B9BF-F08F0322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FC73-3B43-4F7C-A817-7C394F42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0D0D-3F2F-4DB6-ACFC-C7A87F4D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478-319B-47EB-8ADF-2C1AFCD7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AE98-620B-4E37-81EC-2B4DC529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DDB3-F588-45D2-9200-7ACCB596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91D-C060-4782-AE67-1F982206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2CAC-E607-4FDB-B345-E1871686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5E74-2975-469D-867D-08A524AB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0EFE-0B84-437B-95A2-9B4359116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C8A7-A585-4E82-A049-2656D2BC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DFD-4D20-4778-865D-CBE22B9A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9AD0-D573-4AA8-BC03-40658CA17D3B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11239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A Jie G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5493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PM Kheng 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HW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T Xin Juan S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SW Yang Yong Qi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48704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PM Zhang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86800" y="1482840"/>
            <a:ext cx="23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 /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0080" y="1463760"/>
            <a:ext cx="256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Aarlborg HW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3520" y="1268280"/>
            <a:ext cx="20278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ite: Beijing/Shanghai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 Project Team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9" name=""/>
          <p:cNvSpPr/>
          <p:nvPr/>
        </p:nvSpPr>
        <p:spPr>
          <a:xfrm>
            <a:off x="170640" y="809640"/>
            <a:ext cx="28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tatus 21 Feb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4480" y="358128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4676760"/>
            <a:ext cx="35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05440" y="3686040"/>
            <a:ext cx="0" cy="34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48200" y="36766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5332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61048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552840"/>
            <a:ext cx="0" cy="113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840" y="4676760"/>
            <a:ext cx="33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784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0960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7640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2896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90960" y="1924200"/>
            <a:ext cx="0" cy="77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5720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6560" y="2705040"/>
            <a:ext cx="822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9476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OM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. Niel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78480" y="3941640"/>
            <a:ext cx="792000" cy="6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CM3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K. Hil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27620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762360" y="269568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066760" y="269568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145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5813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3888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24852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SO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.L. Thom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44760" y="2957400"/>
            <a:ext cx="79236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SW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Yang Y.Q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8588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QM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T. Bartel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Sonderga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2957400"/>
            <a:ext cx="79200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M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. P. Niel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79960" y="2957400"/>
            <a:ext cx="79200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i Y.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 Wei X.K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14800" y="295740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E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. Svend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43520" y="2967120"/>
            <a:ext cx="792360" cy="63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W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E. R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70120" y="2957400"/>
            <a:ext cx="79200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L CM/IM/DL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Ha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06752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85808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8696160" y="271476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84840" y="2967120"/>
            <a:ext cx="792360" cy="63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GRM R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Spri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10320" y="2967120"/>
            <a:ext cx="792360" cy="630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D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 Maierho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19960" y="2967120"/>
            <a:ext cx="792360" cy="63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I2P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. E. Ra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00440" y="3941640"/>
            <a:ext cx="792360" cy="63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CM1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J. Rie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91040" y="2705040"/>
            <a:ext cx="0" cy="12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89640" y="3941640"/>
            <a:ext cx="79200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QA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u X.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95720" y="3686040"/>
            <a:ext cx="17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036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rchitecture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. Burk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22320" y="4888080"/>
            <a:ext cx="75564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1 /H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el. SW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44560" y="4888080"/>
            <a:ext cx="75564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rotoco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Stack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6716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equirement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Huang Q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56000" y="4888080"/>
            <a:ext cx="755640" cy="48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CM-P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a Y.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488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00840" y="467676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05520" y="4686480"/>
            <a:ext cx="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3868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F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M. Bram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2752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DHW </a:t>
            </a:r>
            <a:br>
              <a:rPr sz="1000"/>
            </a:b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Baseban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F.B. Krist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LPD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R. Ba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05560" y="4888080"/>
            <a:ext cx="755640" cy="48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EA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A.B. </a:t>
            </a:r>
            <a:br>
              <a:rPr sz="1000"/>
            </a:b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Kristens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6440" y="1541520"/>
            <a:ext cx="118116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CP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Koh K.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72080" y="1598760"/>
            <a:ext cx="971640" cy="563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-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.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968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-T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ong X.Y.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.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0492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Lin Y.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52520" y="1598760"/>
            <a:ext cx="971640" cy="563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PM</a:t>
            </a:r>
            <a:br>
              <a:rPr sz="1200"/>
            </a:b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Zhang 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72280" y="5865840"/>
            <a:ext cx="644400" cy="1731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A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75520" y="6122880"/>
            <a:ext cx="644400" cy="17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BEJ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69040" y="6380280"/>
            <a:ext cx="644400" cy="172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a0e66"/>
                </a:solidFill>
                <a:latin typeface="Minion"/>
                <a:ea typeface="文鼎中黑"/>
              </a:rPr>
              <a:t>KLF / M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62760" y="722160"/>
            <a:ext cx="971640" cy="5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Key Customer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T. Bar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10360" y="722160"/>
            <a:ext cx="971640" cy="5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C. Luts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9556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488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7512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60800" y="5891040"/>
            <a:ext cx="839880" cy="177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35600" y="5888160"/>
            <a:ext cx="1362240" cy="188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10320" y="532764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69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75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03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Selma Samrowski</cp:lastModifiedBy>
  <dcterms:modified xsi:type="dcterms:W3CDTF">2006-02-21T17:27:03Z</dcterms:modified>
  <cp:revision>170</cp:revision>
  <dc:subject/>
  <dc:title>PowerPoint</dc:title>
</cp:coreProperties>
</file>